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1A35-496E-4600-AF47-3A08EB503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F295-2EE5-4FA0-AFC1-2BF5CD129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6746-484D-425A-9F5A-5776D6D4E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E659-0213-461B-B804-4FCE5E34D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0FA7-BB4F-4368-9CD8-154C78497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4B0A-8D0C-4D9B-8ED7-15FA51AE5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2BA1-84B9-41F7-93FE-ED57540F9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4DC1-6B46-4B0A-A109-254AD53B9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33D9-558E-4266-94AB-084304AF1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484F-B47F-468E-8F33-5FE8A9A9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4682-65A9-4FDD-992A-BFD75DC0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D799-D9BC-43CA-9064-0EE75D90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95018-0970-4064-967F-D8B748E01B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2d050"/>
                </a:solidFill>
                <a:latin typeface="Monotype Corsiva"/>
              </a:rPr>
              <a:t>История  новогодних</a:t>
            </a:r>
            <a:br>
              <a:rPr sz="6600"/>
            </a:br>
            <a:r>
              <a:rPr b="1" lang="ru-RU" sz="6600" spc="-1" strike="noStrike">
                <a:solidFill>
                  <a:srgbClr val="92d050"/>
                </a:solidFill>
                <a:latin typeface="Monotype Corsiva"/>
              </a:rPr>
              <a:t>ёлочных  игрушек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Содержимое 5" descr="елка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6"/>
          <p:cNvSpPr/>
          <p:nvPr/>
        </p:nvSpPr>
        <p:spPr>
          <a:xfrm>
            <a:off x="214200" y="1428840"/>
            <a:ext cx="41436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2d050"/>
                </a:solidFill>
                <a:latin typeface="Monotype Corsiva"/>
              </a:rPr>
              <a:t>История новогодних</a:t>
            </a:r>
            <a:br>
              <a:rPr sz="6000"/>
            </a:br>
            <a:r>
              <a:rPr b="1" lang="ru-RU" sz="6000" spc="-1" strike="noStrike">
                <a:solidFill>
                  <a:srgbClr val="92d050"/>
                </a:solidFill>
                <a:latin typeface="Monotype Corsiva"/>
              </a:rPr>
              <a:t>ёлочных игруше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Monotype Corsiva"/>
              </a:rPr>
              <a:t>Когда наступило мирное время , игрушки тут- же превратились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В волшебных факир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Сказочных персонаж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Содержимое 11" descr="http://www.oytoy.ru/capsule/imglib/data/328/5667/12/cb20130108210214.jpg"/>
          <p:cNvPicPr/>
          <p:nvPr/>
        </p:nvPicPr>
        <p:blipFill>
          <a:blip r:embed="rId1"/>
          <a:stretch/>
        </p:blipFill>
        <p:spPr>
          <a:xfrm>
            <a:off x="714240" y="2174760"/>
            <a:ext cx="3286440" cy="4469040"/>
          </a:xfrm>
          <a:prstGeom prst="rect">
            <a:avLst/>
          </a:prstGeom>
          <a:ln w="0">
            <a:noFill/>
          </a:ln>
        </p:spPr>
      </p:pic>
      <p:pic>
        <p:nvPicPr>
          <p:cNvPr id="77" name="Содержимое 16" descr="http://www.oytoy.ru/capsule/imglib/data/328/5671/12/cb20130108211453.jpg"/>
          <p:cNvPicPr/>
          <p:nvPr/>
        </p:nvPicPr>
        <p:blipFill>
          <a:blip r:embed="rId2"/>
          <a:stretch/>
        </p:blipFill>
        <p:spPr>
          <a:xfrm>
            <a:off x="4929120" y="2174760"/>
            <a:ext cx="3357720" cy="43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214200"/>
            <a:ext cx="4040280" cy="85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9000"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В </a:t>
            </a:r>
            <a:r>
              <a:rPr b="1" lang="ru-RU" sz="3600" spc="-1" strike="noStrike">
                <a:solidFill>
                  <a:srgbClr val="c00000"/>
                </a:solidFill>
                <a:latin typeface="Monotype Corsiva"/>
              </a:rPr>
              <a:t>домики и ёлоч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4720" y="214200"/>
            <a:ext cx="4041720" cy="85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Monotype Corsiva"/>
              </a:rPr>
              <a:t> </a:t>
            </a:r>
            <a:r>
              <a:rPr b="1" lang="ru-RU" sz="4000" spc="-1" strike="noStrike">
                <a:solidFill>
                  <a:srgbClr val="c00000"/>
                </a:solidFill>
                <a:latin typeface="Monotype Corsiva"/>
              </a:rPr>
              <a:t>В животны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Содержимое 11" descr="http://www.oytoy.ru/capsule/imglib/data/328/5680/12/cb20130108220750.jpg"/>
          <p:cNvPicPr/>
          <p:nvPr/>
        </p:nvPicPr>
        <p:blipFill>
          <a:blip r:embed="rId1"/>
          <a:stretch/>
        </p:blipFill>
        <p:spPr>
          <a:xfrm>
            <a:off x="285840" y="1428840"/>
            <a:ext cx="4286160" cy="5000400"/>
          </a:xfrm>
          <a:prstGeom prst="rect">
            <a:avLst/>
          </a:prstGeom>
          <a:ln w="0">
            <a:noFill/>
          </a:ln>
        </p:spPr>
      </p:pic>
      <p:pic>
        <p:nvPicPr>
          <p:cNvPr id="82" name="Содержимое 12" descr="http://www.oytoy.ru/capsule/imglib/data/328/5639/12/cb20130108185843.jpg"/>
          <p:cNvPicPr/>
          <p:nvPr/>
        </p:nvPicPr>
        <p:blipFill>
          <a:blip r:embed="rId2"/>
          <a:stretch/>
        </p:blipFill>
        <p:spPr>
          <a:xfrm>
            <a:off x="5000760" y="1428840"/>
            <a:ext cx="378612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42560"/>
            <a:ext cx="404028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Monotype Corsiva"/>
              </a:rPr>
              <a:t>В звезд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214200"/>
            <a:ext cx="4041720" cy="85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3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Monotype Corsiva"/>
              </a:rPr>
              <a:t>В фрукты и овощ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Содержимое 6" descr="http://www.oytoy.ru/capsule/imglib/data/328/5670/12/cb20130108211311.jpg"/>
          <p:cNvPicPr/>
          <p:nvPr/>
        </p:nvPicPr>
        <p:blipFill>
          <a:blip r:embed="rId1"/>
          <a:stretch/>
        </p:blipFill>
        <p:spPr>
          <a:xfrm>
            <a:off x="4645080" y="1500120"/>
            <a:ext cx="4041720" cy="4857840"/>
          </a:xfrm>
          <a:prstGeom prst="rect">
            <a:avLst/>
          </a:prstGeom>
          <a:ln w="0">
            <a:noFill/>
          </a:ln>
        </p:spPr>
      </p:pic>
      <p:pic>
        <p:nvPicPr>
          <p:cNvPr id="87" name="Содержимое 7" descr="http://www.oytoy.ru/capsule/imglib/data/328/5678/12/cb20130108220019.jpg"/>
          <p:cNvPicPr/>
          <p:nvPr/>
        </p:nvPicPr>
        <p:blipFill>
          <a:blip r:embed="rId2"/>
          <a:stretch/>
        </p:blipFill>
        <p:spPr>
          <a:xfrm>
            <a:off x="642960" y="1214280"/>
            <a:ext cx="357192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И , конечно же, во множество разноцветных шаров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Содержимое 13" descr="елка2.jpg"/>
          <p:cNvPicPr/>
          <p:nvPr/>
        </p:nvPicPr>
        <p:blipFill>
          <a:blip r:embed="rId1"/>
          <a:stretch/>
        </p:blipFill>
        <p:spPr>
          <a:xfrm>
            <a:off x="714240" y="1214280"/>
            <a:ext cx="771552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9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00000"/>
                </a:solidFill>
                <a:latin typeface="Monotype Corsiva"/>
              </a:rPr>
              <a:t>Ёлочка ваших пап и мам ,дедушек и бабушек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Содержимое 5" descr="елка47.jpg"/>
          <p:cNvPicPr/>
          <p:nvPr/>
        </p:nvPicPr>
        <p:blipFill>
          <a:blip r:embed="rId1"/>
          <a:stretch/>
        </p:blipFill>
        <p:spPr>
          <a:xfrm>
            <a:off x="214200" y="1214280"/>
            <a:ext cx="4286520" cy="5214960"/>
          </a:xfrm>
          <a:prstGeom prst="rect">
            <a:avLst/>
          </a:prstGeom>
          <a:ln w="0">
            <a:noFill/>
          </a:ln>
        </p:spPr>
      </p:pic>
      <p:pic>
        <p:nvPicPr>
          <p:cNvPr id="92" name="Содержимое 6" descr="елка49.jpg"/>
          <p:cNvPicPr/>
          <p:nvPr/>
        </p:nvPicPr>
        <p:blipFill>
          <a:blip r:embed="rId2"/>
          <a:stretch/>
        </p:blipFill>
        <p:spPr>
          <a:xfrm>
            <a:off x="4857840" y="2071800"/>
            <a:ext cx="40384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Сейчас ёлочку, чаще всего украшают шар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Содержимое 8" descr="елка52.jpg"/>
          <p:cNvPicPr/>
          <p:nvPr/>
        </p:nvPicPr>
        <p:blipFill>
          <a:blip r:embed="rId1"/>
          <a:stretch/>
        </p:blipFill>
        <p:spPr>
          <a:xfrm>
            <a:off x="428760" y="1500120"/>
            <a:ext cx="3555720" cy="5072040"/>
          </a:xfrm>
          <a:prstGeom prst="rect">
            <a:avLst/>
          </a:prstGeom>
          <a:ln w="0">
            <a:noFill/>
          </a:ln>
        </p:spPr>
      </p:pic>
      <p:pic>
        <p:nvPicPr>
          <p:cNvPr id="95" name="Содержимое 9" descr="елка55.jpg"/>
          <p:cNvPicPr/>
          <p:nvPr/>
        </p:nvPicPr>
        <p:blipFill>
          <a:blip r:embed="rId2"/>
          <a:stretch/>
        </p:blipFill>
        <p:spPr>
          <a:xfrm>
            <a:off x="4643280" y="1643040"/>
            <a:ext cx="428652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Monotype Corsiva"/>
              </a:rPr>
              <a:t>И игрушками ,сделанными своими рукам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Содержимое 6" descr="http://www.oytoy.ru/capsule/imglib/data/328/5674/12/cb20130108214820.jpg"/>
          <p:cNvPicPr/>
          <p:nvPr/>
        </p:nvPicPr>
        <p:blipFill>
          <a:blip r:embed="rId1"/>
          <a:stretch/>
        </p:blipFill>
        <p:spPr>
          <a:xfrm>
            <a:off x="1500120" y="1643040"/>
            <a:ext cx="60721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Monotype Corsiva"/>
              </a:rPr>
              <a:t>И ёлочки сейчас бывают необычные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Monotype Corsiva"/>
              </a:rPr>
              <a:t>Из шар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Содержимое 3" descr="елка56.jpg"/>
          <p:cNvPicPr/>
          <p:nvPr/>
        </p:nvPicPr>
        <p:blipFill>
          <a:blip r:embed="rId1"/>
          <a:stretch/>
        </p:blipFill>
        <p:spPr>
          <a:xfrm>
            <a:off x="2143080" y="1600200"/>
            <a:ext cx="457200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Monotype Corsiva"/>
              </a:rPr>
              <a:t>Ёлочка ,растущая из потол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Содержимое 3" descr="елка57.jpg"/>
          <p:cNvPicPr/>
          <p:nvPr/>
        </p:nvPicPr>
        <p:blipFill>
          <a:blip r:embed="rId1"/>
          <a:stretch/>
        </p:blipFill>
        <p:spPr>
          <a:xfrm>
            <a:off x="1857240" y="1214280"/>
            <a:ext cx="54295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Monotype Corsiva"/>
              </a:rPr>
              <a:t>Ёлочка вся в фонаря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Содержимое 3" descr="елка53.jpg"/>
          <p:cNvPicPr/>
          <p:nvPr/>
        </p:nvPicPr>
        <p:blipFill>
          <a:blip r:embed="rId1"/>
          <a:stretch/>
        </p:blipFill>
        <p:spPr>
          <a:xfrm>
            <a:off x="1168560" y="1214280"/>
            <a:ext cx="680688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Monotype Corsiva"/>
              </a:rPr>
              <a:t>Новогодняя красавиц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3" descr="елка58.jpg"/>
          <p:cNvPicPr/>
          <p:nvPr/>
        </p:nvPicPr>
        <p:blipFill>
          <a:blip r:embed="rId1"/>
          <a:stretch/>
        </p:blipFill>
        <p:spPr>
          <a:xfrm>
            <a:off x="1643040" y="1071720"/>
            <a:ext cx="550080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42920"/>
            <a:ext cx="404028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5000"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Monotype Corsiva"/>
              </a:rPr>
              <a:t>Ёлочка из галстук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Содержимое 8" descr="елка1.jpg"/>
          <p:cNvPicPr/>
          <p:nvPr/>
        </p:nvPicPr>
        <p:blipFill>
          <a:blip r:embed="rId1"/>
          <a:stretch/>
        </p:blipFill>
        <p:spPr>
          <a:xfrm>
            <a:off x="642960" y="1143000"/>
            <a:ext cx="3643200" cy="55008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4720" y="-360"/>
            <a:ext cx="404172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8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Monotype Corsiva"/>
              </a:rPr>
              <a:t>Ёлочка из карандаш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Содержимое 9" descr="елка2.jpg"/>
          <p:cNvPicPr/>
          <p:nvPr/>
        </p:nvPicPr>
        <p:blipFill>
          <a:blip r:embed="rId2"/>
          <a:stretch/>
        </p:blipFill>
        <p:spPr>
          <a:xfrm>
            <a:off x="4786200" y="1214280"/>
            <a:ext cx="371484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6228"/>
                </a:solidFill>
                <a:latin typeface="Monotype Corsiva"/>
              </a:rPr>
              <a:t>Но самая красивая ёлочка, которая украшена </a:t>
            </a:r>
            <a:r>
              <a:rPr b="1" lang="ru-RU" sz="4000" spc="-1" strike="noStrike" u="sng">
                <a:solidFill>
                  <a:srgbClr val="c00000"/>
                </a:solidFill>
                <a:uFillTx/>
                <a:latin typeface="Monotype Corsiva"/>
              </a:rPr>
              <a:t>разными игрушками</a:t>
            </a:r>
            <a:r>
              <a:rPr b="1" lang="ru-RU" sz="4000" spc="-1" strike="noStrike" u="sng">
                <a:solidFill>
                  <a:srgbClr val="c00000"/>
                </a:solidFill>
                <a:uFillTx/>
                <a:latin typeface="Calibri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Содержимое 5" descr="елка43.jpg"/>
          <p:cNvPicPr/>
          <p:nvPr/>
        </p:nvPicPr>
        <p:blipFill>
          <a:blip r:embed="rId1"/>
          <a:stretch/>
        </p:blipFill>
        <p:spPr>
          <a:xfrm>
            <a:off x="1071720" y="1143000"/>
            <a:ext cx="70005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29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Ребята, любите, храните, цените и берегите  игрушки!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Ведь так замечательно, когда нас всех  окружает  КРАСОТА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Содержимое 3" descr="елка6.jpg"/>
          <p:cNvPicPr/>
          <p:nvPr/>
        </p:nvPicPr>
        <p:blipFill>
          <a:blip r:embed="rId1"/>
          <a:stretch/>
        </p:blipFill>
        <p:spPr>
          <a:xfrm>
            <a:off x="571680" y="2714760"/>
            <a:ext cx="821520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Содержимое 6" descr="елка44.jpg"/>
          <p:cNvPicPr/>
          <p:nvPr/>
        </p:nvPicPr>
        <p:blipFill>
          <a:blip r:embed="rId1"/>
          <a:stretch/>
        </p:blipFill>
        <p:spPr>
          <a:xfrm>
            <a:off x="3951360" y="272880"/>
            <a:ext cx="5049720" cy="6156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214200"/>
            <a:ext cx="385776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6228"/>
                </a:solidFill>
                <a:latin typeface="Calibri"/>
              </a:rPr>
              <a:t>Первые ёлки в России появились очень давно, но их не украшали , а начали это делать чуть позже повторяя европейскую моду. Елочных игрушек русского производства тогда еще не было, их заказывали в Европе. Уже тогда елочные игрушки четко делились на украшения для состоятельных и для тех, кто победнее. Купить игрушку из стекла для жителя России того времени — было то же самое, что современному россиянину сейчас купить машину. Ёлочные шары были тяжелыми, поскольку тонкое стекло научились делать лишь к началу 20 ве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Monotype Corsiva"/>
              </a:rPr>
              <a:t>Какими же игрушками раньше украшали ёлочку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285560"/>
            <a:ext cx="4040280" cy="88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Monotype Corsiva"/>
              </a:rPr>
              <a:t>Стеклянны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Содержимое 11" descr="елка21.jpg"/>
          <p:cNvPicPr/>
          <p:nvPr/>
        </p:nvPicPr>
        <p:blipFill>
          <a:blip r:embed="rId1"/>
          <a:stretch/>
        </p:blipFill>
        <p:spPr>
          <a:xfrm>
            <a:off x="457200" y="2071800"/>
            <a:ext cx="4040280" cy="44290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Monotype Corsiva"/>
              </a:rPr>
              <a:t>Картонны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12" descr="елка22.jpg"/>
          <p:cNvPicPr/>
          <p:nvPr/>
        </p:nvPicPr>
        <p:blipFill>
          <a:blip r:embed="rId2"/>
          <a:stretch/>
        </p:blipFill>
        <p:spPr>
          <a:xfrm>
            <a:off x="4645080" y="2071800"/>
            <a:ext cx="404172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213840"/>
            <a:ext cx="404028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Ватны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6" descr="елка27.jpg"/>
          <p:cNvPicPr/>
          <p:nvPr/>
        </p:nvPicPr>
        <p:blipFill>
          <a:blip r:embed="rId1"/>
          <a:stretch/>
        </p:blipFill>
        <p:spPr>
          <a:xfrm>
            <a:off x="500040" y="1357200"/>
            <a:ext cx="3714840" cy="52149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4720" y="285840"/>
            <a:ext cx="404172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7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Monotype Corsiva"/>
              </a:rPr>
              <a:t>Фарфоровым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9" descr="елка31.jpg"/>
          <p:cNvPicPr/>
          <p:nvPr/>
        </p:nvPicPr>
        <p:blipFill>
          <a:blip r:embed="rId2"/>
          <a:stretch/>
        </p:blipFill>
        <p:spPr>
          <a:xfrm>
            <a:off x="4689360" y="1357200"/>
            <a:ext cx="395136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2560" y="214200"/>
            <a:ext cx="378612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6228"/>
                </a:solidFill>
                <a:latin typeface="Calibri"/>
              </a:rPr>
              <a:t>Первые стеклянные игрушки на территории  России начали делать  в Клину до Первой Мировой войны. Там мастера-артельщики выдували стеклянные изделия для аптек и прочих нужд. Но в военные годы пленные немцы научили их выдувать шары и бусы. Клинская фабрика «Елочка», кстати, по сей день остается единственной в России фабрикой, которая делает бусы для ел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6" descr="http://www.oytoy.ru/capsule/imglib/data/328/5631/12/cb20130108185124.jpg"/>
          <p:cNvPicPr/>
          <p:nvPr/>
        </p:nvPicPr>
        <p:blipFill>
          <a:blip r:embed="rId1"/>
          <a:stretch/>
        </p:blipFill>
        <p:spPr>
          <a:xfrm>
            <a:off x="4000680" y="214200"/>
            <a:ext cx="4762440" cy="328608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7" descr="http://www.oytoy.ru/capsule/imglib/data/328/5630/12/cb20130108184949.jpg"/>
          <p:cNvPicPr/>
          <p:nvPr/>
        </p:nvPicPr>
        <p:blipFill>
          <a:blip r:embed="rId2"/>
          <a:stretch/>
        </p:blipFill>
        <p:spPr>
          <a:xfrm>
            <a:off x="4000680" y="3643200"/>
            <a:ext cx="47862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14200"/>
            <a:ext cx="3008160" cy="607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Monotype Corsiva"/>
              </a:rPr>
              <a:t>Помимо стекла игрушки делали из картона. Игрушки, склеенные из двух половинок выпуклого тонированного картона и получались замечательные игруш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16" descr="http://www.oytoy.ru/capsule/imglib/data/328/5656/12/cb20130108194400.jpg"/>
          <p:cNvPicPr/>
          <p:nvPr/>
        </p:nvPicPr>
        <p:blipFill>
          <a:blip r:embed="rId1"/>
          <a:stretch/>
        </p:blipFill>
        <p:spPr>
          <a:xfrm>
            <a:off x="3749760" y="357120"/>
            <a:ext cx="5108400" cy="59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14200"/>
            <a:ext cx="300816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Monotype Corsiva"/>
              </a:rPr>
              <a:t>Были игрушки и из ваты, накрученной на проволочный каркас: так оформляли фигурки детей, ангелочков, клоунов, моряков. На елках развешивали бутафорские фрукты из папье-маше, бархат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4" descr="http://www.oytoy.ru/capsule/imglib/data/328/5644/12/cb20130108185953.jpg"/>
          <p:cNvPicPr/>
          <p:nvPr/>
        </p:nvPicPr>
        <p:blipFill>
          <a:blip r:embed="rId1"/>
          <a:stretch/>
        </p:blipFill>
        <p:spPr>
          <a:xfrm>
            <a:off x="3786120" y="272880"/>
            <a:ext cx="4857840" cy="62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3008160" cy="564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Monotype Corsiva"/>
              </a:rPr>
              <a:t>Елочные игрушки отображали  историю нашей страны . Если было время военное, то и ёлочные украшения делали такие- солдатиков самолеты, различные боевые машины. Даже на шарах  рисовали военные сраж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571680"/>
            <a:ext cx="300816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Содержимое 4" descr="http://www.oytoy.ru/capsule/imglib/data/328/5637/12/cb20130108185802.jpg"/>
          <p:cNvPicPr/>
          <p:nvPr/>
        </p:nvPicPr>
        <p:blipFill>
          <a:blip r:embed="rId1"/>
          <a:stretch/>
        </p:blipFill>
        <p:spPr>
          <a:xfrm>
            <a:off x="3929040" y="214200"/>
            <a:ext cx="4762440" cy="271476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5" descr="http://www.oytoy.ru/capsule/imglib/data/328/5662/12/cb20130108201239.jpg"/>
          <p:cNvPicPr/>
          <p:nvPr/>
        </p:nvPicPr>
        <p:blipFill>
          <a:blip r:embed="rId2"/>
          <a:stretch/>
        </p:blipFill>
        <p:spPr>
          <a:xfrm>
            <a:off x="4214880" y="3000240"/>
            <a:ext cx="409572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италий</cp:lastModifiedBy>
  <dcterms:modified xsi:type="dcterms:W3CDTF">2016-01-07T16:13:38Z</dcterms:modified>
  <cp:revision>23</cp:revision>
  <dc:subject/>
  <dc:title>История  новогодних ёлочных  игрушек</dc:title>
</cp:coreProperties>
</file>